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8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409-4D58-4F8C-BF8D-9F56C3C31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EB2-1226-4BD9-80E3-A2A7177475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3FE6-D226-458E-8D1E-3E7E2A09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4598-88DB-4944-8531-64785E4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4176-6774-4FC2-9B0D-ADEA3A9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CA3E-48A3-4E81-BD99-978C8FE1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2016-FFD8-4D4D-8D4C-3F133A1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688D-FF57-4C36-83AC-48C1A63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0B96-83F7-49C9-8AA2-1AF094A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5447-6D3B-44E4-92F8-ABBE5893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DF13-0A62-431E-82C2-309FBC1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3FEF-BDE2-4572-A43B-C3327C3F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0B7A-700D-4EA0-8F71-772D4AE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9D6F-249C-447A-BC29-4DFB6AB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CC6-9AAD-4A97-A6B0-189BB5839C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0" name="Picture 11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2"/>
          <p:cNvSpPr txBox="1"/>
          <p:nvPr/>
        </p:nvSpPr>
        <p:spPr>
          <a:xfrm rot="20716200">
            <a:off x="363600" y="1033200"/>
            <a:ext cx="480996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боты великих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ов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692280"/>
            <a:ext cx="3970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j0172495"/>
          <p:cNvPicPr/>
          <p:nvPr/>
        </p:nvPicPr>
        <p:blipFill>
          <a:blip r:embed="rId1"/>
          <a:stretch/>
        </p:blipFill>
        <p:spPr>
          <a:xfrm>
            <a:off x="250920" y="1341360"/>
            <a:ext cx="442728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азал знаменитую теорему, которую назвали теоремой Фалес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Если параллельные прямые, пересекающие стороны угла, отсекают на одной его стороне равные отрезки, то они отсекают равные отрезки и на другой его сторо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48000" y="4653000"/>
            <a:ext cx="36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линия"/>
          <p:cNvPicPr/>
          <p:nvPr/>
        </p:nvPicPr>
        <p:blipFill>
          <a:blip r:embed="rId1"/>
          <a:stretch/>
        </p:blipFill>
        <p:spPr>
          <a:xfrm>
            <a:off x="539640" y="1628640"/>
            <a:ext cx="7993080" cy="138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линия"/>
          <p:cNvPicPr/>
          <p:nvPr/>
        </p:nvPicPr>
        <p:blipFill>
          <a:blip r:embed="rId2"/>
          <a:stretch/>
        </p:blipFill>
        <p:spPr>
          <a:xfrm>
            <a:off x="611280" y="5300640"/>
            <a:ext cx="8064360" cy="138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55640" y="3860640"/>
            <a:ext cx="4537080" cy="187344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Франсуа Ви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французский математ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1540 -160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116000" y="620640"/>
            <a:ext cx="7201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нсуа Виет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7L4"/>
          <p:cNvPicPr/>
          <p:nvPr/>
        </p:nvPicPr>
        <p:blipFill>
          <a:blip r:embed="rId1"/>
          <a:stretch/>
        </p:blipFill>
        <p:spPr>
          <a:xfrm>
            <a:off x="0" y="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L4"/>
          <p:cNvPicPr/>
          <p:nvPr/>
        </p:nvPicPr>
        <p:blipFill>
          <a:blip r:embed="rId2"/>
          <a:stretch/>
        </p:blipFill>
        <p:spPr>
          <a:xfrm rot="5400000">
            <a:off x="-3351240" y="3351240"/>
            <a:ext cx="6858000" cy="15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7L4"/>
          <p:cNvPicPr/>
          <p:nvPr/>
        </p:nvPicPr>
        <p:blipFill>
          <a:blip r:embed="rId3"/>
          <a:stretch/>
        </p:blipFill>
        <p:spPr>
          <a:xfrm>
            <a:off x="0" y="664992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7L4"/>
          <p:cNvPicPr/>
          <p:nvPr/>
        </p:nvPicPr>
        <p:blipFill>
          <a:blip r:embed="rId4"/>
          <a:stretch/>
        </p:blipFill>
        <p:spPr>
          <a:xfrm rot="5400000">
            <a:off x="5636880" y="3351240"/>
            <a:ext cx="6858000" cy="15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9"/>
          <p:cNvPicPr/>
          <p:nvPr/>
        </p:nvPicPr>
        <p:blipFill>
          <a:blip r:embed="rId5"/>
          <a:stretch/>
        </p:blipFill>
        <p:spPr>
          <a:xfrm>
            <a:off x="395280" y="2060640"/>
            <a:ext cx="3697200" cy="43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ема Ви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праву достойна в стихах быть восп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 свойствах корней теорема Вие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лучше, скажи, постоянства таког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ножишь ты корни – и дробь уже готов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числителе «с», в знаменателе «а»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сумма корней тоже дроби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оть с минусом дробь эта., что за беда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числителе «в», в знаменателе «а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22"/>
          <p:cNvPicPr/>
          <p:nvPr/>
        </p:nvPicPr>
        <p:blipFill>
          <a:blip r:embed="rId1"/>
          <a:stretch/>
        </p:blipFill>
        <p:spPr>
          <a:xfrm flipH="1">
            <a:off x="5292720" y="1197000"/>
            <a:ext cx="3681360" cy="446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580000" y="177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+ px + q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6012000" y="1700280"/>
            <a:ext cx="1458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0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164360" y="20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1+x2=-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1*x2=q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оризм Ви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616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Искусство, которое я излагаю, ново или по крайней мере было настолько испорчено временем и искажено влиянием варваров, что я счел нужным придать ему совершенно новый вид.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BD05629_"/>
          <p:cNvPicPr/>
          <p:nvPr/>
        </p:nvPicPr>
        <p:blipFill>
          <a:blip r:embed="rId1"/>
          <a:stretch/>
        </p:blipFill>
        <p:spPr>
          <a:xfrm>
            <a:off x="5796000" y="2781360"/>
            <a:ext cx="309564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-324360" y="-603360"/>
            <a:ext cx="9720360" cy="7777440"/>
          </a:xfrm>
          <a:prstGeom prst="rect">
            <a:avLst/>
          </a:prstGeom>
          <a:gradFill rotWithShape="0">
            <a:gsLst>
              <a:gs pos="0">
                <a:srgbClr val="ebb3cf"/>
              </a:gs>
              <a:gs pos="100000">
                <a:srgbClr val="ff66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1116000" y="0"/>
            <a:ext cx="720108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фагор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732720" y="6165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66240" y="6165720"/>
            <a:ext cx="6696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ок. 580 г. и умер ок. 500 г. до н.э.)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8" descr="13"/>
          <p:cNvPicPr/>
          <p:nvPr/>
        </p:nvPicPr>
        <p:blipFill>
          <a:blip r:embed="rId2"/>
          <a:stretch/>
        </p:blipFill>
        <p:spPr>
          <a:xfrm>
            <a:off x="2771640" y="1413000"/>
            <a:ext cx="3267360" cy="44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01504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4b2500"/>
              </a:solidFill>
              <a:latin typeface="Matura MT Script Capital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2349360"/>
            <a:ext cx="403884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АС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+ ВС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r>
              <a:rPr b="1" lang="en-US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АВ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8360" y="378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84360" y="3068640"/>
            <a:ext cx="3313080" cy="3457440"/>
          </a:xfrm>
          <a:prstGeom prst="rtTriangle">
            <a:avLst/>
          </a:prstGeom>
          <a:solidFill>
            <a:srgbClr val="e4f965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748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06728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9280" y="6165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0" y="3213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971640" y="907920"/>
            <a:ext cx="72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доказал известную теорему Пифагор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780000" y="3789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859280" y="3602160"/>
            <a:ext cx="4969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Если дан нам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И при том с прямым угл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То квадрат гипотену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Мы всегда легко найд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атеты в квадрат возводи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умму степеней найде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И таким простым пу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 результату мы прид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ифагоровы шт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5184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ифагоровы штаны (школьн., устар.) - шуточное название теоремы Пифагора, возникшее в силу того, что раньше в школьных учебниках эта теорема доказывалась через доказательство равенства суммы площадей квадратов, построенных на катетах прямоугольного треугольника, площади квадрата, построенного на гипотенузе этого треугольни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22"/>
          <p:cNvPicPr/>
          <p:nvPr/>
        </p:nvPicPr>
        <p:blipFill>
          <a:blip r:embed="rId1"/>
          <a:stretch/>
        </p:blipFill>
        <p:spPr>
          <a:xfrm flipH="1">
            <a:off x="987120" y="2492280"/>
            <a:ext cx="3314520" cy="398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"/>
          <p:cNvPicPr/>
          <p:nvPr/>
        </p:nvPicPr>
        <p:blipFill>
          <a:blip r:embed="rId2"/>
          <a:stretch/>
        </p:blipFill>
        <p:spPr>
          <a:xfrm>
            <a:off x="1403280" y="2924280"/>
            <a:ext cx="1212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сканирование0006"/>
          <p:cNvPicPr/>
          <p:nvPr/>
        </p:nvPicPr>
        <p:blipFill>
          <a:blip r:embed="rId1"/>
          <a:srcRect l="0" t="43709" r="26348" b="-1079"/>
          <a:stretch/>
        </p:blipFill>
        <p:spPr>
          <a:xfrm>
            <a:off x="3348000" y="3789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сканирование0005"/>
          <p:cNvPicPr/>
          <p:nvPr/>
        </p:nvPicPr>
        <p:blipFill>
          <a:blip r:embed="rId2"/>
          <a:srcRect l="0" t="8814" r="9748" b="8875"/>
          <a:stretch/>
        </p:blipFill>
        <p:spPr>
          <a:xfrm>
            <a:off x="6084720" y="3760920"/>
            <a:ext cx="2211480" cy="290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сканирование0007"/>
          <p:cNvPicPr/>
          <p:nvPr/>
        </p:nvPicPr>
        <p:blipFill>
          <a:blip r:embed="rId3"/>
          <a:srcRect l="7160" t="0" r="7093" b="5386"/>
          <a:stretch/>
        </p:blipFill>
        <p:spPr>
          <a:xfrm>
            <a:off x="684360" y="3789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6360" y="284040"/>
            <a:ext cx="4032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a69564"/>
              </a:solidFill>
              <a:latin typeface="Matura MT Script Capital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38145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00000" y="18900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Доказательство  теоремы Пифагора считалось в кругах учащихся средних веков очень трудным и называлось иногда «ослиный мост» или «бегство убогих», так как некоторые «убогие» ученики, не имевшие серьёзной математической подготовки, бежали от геометр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Теорему Пифагора учащиеся называли также «ветряной мельницей», составляли стишки врод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Пифагоровы штаны  во все стороны равн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Рисовали карикату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38145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Однако в настоящее время установлено, что эта важнейшая теорема встречается в вавилонских текстах, написанных за 1200 лет до Пифагор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Верёвочным треугольником со сторонами 3, 4 и 5 единиц пользовались ещё в Древнем Египте для построения прямых углов на мест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Поэтому треугольник  со сторонами 3, 4 и 5 называют ещё иногда египетск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сканирование0019"/>
          <p:cNvPicPr/>
          <p:nvPr/>
        </p:nvPicPr>
        <p:blipFill>
          <a:blip r:embed="rId1"/>
          <a:srcRect l="17828" t="14404" r="25469" b="20820"/>
          <a:stretch/>
        </p:blipFill>
        <p:spPr>
          <a:xfrm>
            <a:off x="4716360" y="2276640"/>
            <a:ext cx="3882960" cy="27381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50920" y="2276640"/>
            <a:ext cx="259236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684360" y="765000"/>
            <a:ext cx="77752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вклид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508720" y="4221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365-300 до. н. э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7"/>
          <p:cNvPicPr/>
          <p:nvPr/>
        </p:nvPicPr>
        <p:blipFill>
          <a:blip r:embed="rId1"/>
          <a:stretch/>
        </p:blipFill>
        <p:spPr>
          <a:xfrm>
            <a:off x="1116000" y="2205000"/>
            <a:ext cx="3978360" cy="44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189000"/>
            <a:ext cx="532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увшись на родину, Пифагор организовал  пифагорейский орден и школу философов и математ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существовал декрет, по которому авторство всех математических работ приписывалось самому Пифаго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была очень серьёзная дисциплина. Главным безоговорочным аргументом в научных спорах были слова «сам сказал». После этого дискуссии прекраща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т некоторые из тракта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й лишь то, что впоследствии не омрачит тебя и не заставит раскаива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лай никогда того, чего не знаешь, но научись всему, что нужно зн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ись жить просто и без роскош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молчи, либо говори то, что ценнее молч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крывай глаза, когда хочешь спать, не разобравши всех своих поступков за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сканирование0008"/>
          <p:cNvPicPr/>
          <p:nvPr/>
        </p:nvPicPr>
        <p:blipFill>
          <a:blip r:embed="rId1"/>
          <a:srcRect l="4742" t="14049" r="8299" b="17692"/>
          <a:stretch/>
        </p:blipFill>
        <p:spPr>
          <a:xfrm>
            <a:off x="5292720" y="2276640"/>
            <a:ext cx="3643200" cy="2665080"/>
          </a:xfrm>
          <a:prstGeom prst="rect">
            <a:avLst/>
          </a:prstGeom>
          <a:ln w="66600">
            <a:solidFill>
              <a:srgbClr val="ff9900"/>
            </a:solidFill>
            <a:miter/>
          </a:ln>
        </p:spPr>
      </p:pic>
      <p:sp>
        <p:nvSpPr>
          <p:cNvPr id="152" name="Rectangle 7"/>
          <p:cNvSpPr/>
          <p:nvPr/>
        </p:nvSpPr>
        <p:spPr>
          <a:xfrm>
            <a:off x="4716360" y="5084640"/>
            <a:ext cx="51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Бронников (1827 – 19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имн пифагорейцев восходящему солнцу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4" name="Picture 3" descr="сканирование0011"/>
          <p:cNvPicPr/>
          <p:nvPr/>
        </p:nvPicPr>
        <p:blipFill>
          <a:blip r:embed="rId1"/>
          <a:srcRect l="67985" t="2978" r="3631" b="61124"/>
          <a:stretch/>
        </p:blipFill>
        <p:spPr>
          <a:xfrm>
            <a:off x="4713120" y="1778040"/>
            <a:ext cx="4073760" cy="3900600"/>
          </a:xfrm>
          <a:prstGeom prst="rect">
            <a:avLst/>
          </a:prstGeom>
          <a:ln w="66600">
            <a:solidFill>
              <a:srgbClr val="ff9900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250920" y="1844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юбленной геометрической фигурой пифагорейцев была пентаграмма или пифагорейская зв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стрече они рисовали её на песке, тем самым приветствуя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таграмма служила им паролем и была символом здоровья и счаст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64080" cy="4032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395280" y="1052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ё познает слабый челове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ыне теорема Пифаг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а, как и в его далёкий 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ильно было жертвопринош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ам от Пифагора. Сто бы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тдал на закланье и сожж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света луч, пришедший с обла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сегда с тех самых по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ть истина рождается на свет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ки ревут, её почуя, всл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не в силах свету помеша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гут лишь, закрыв глаза, дрож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страха, что вселил в них Пифаг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395280" y="189000"/>
            <a:ext cx="828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cap="rnd" w="414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ff00"/>
                </a:solidFill>
                <a:latin typeface="Impact"/>
              </a:rPr>
              <a:t>Рене Декарт</a:t>
            </a:r>
            <a:endParaRPr b="0" lang="en-US" sz="1200" spc="1" strike="noStrike">
              <a:ln cap="rnd" w="4140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95640" y="2563560"/>
            <a:ext cx="4678560" cy="3089160"/>
          </a:xfrm>
          <a:prstGeom prst="rect">
            <a:avLst/>
          </a:prstGeom>
          <a:solidFill>
            <a:srgbClr val="ff00ff"/>
          </a:solidFill>
          <a:ln w="5724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р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596 - 165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филосо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5" descr="7L4"/>
          <p:cNvPicPr/>
          <p:nvPr/>
        </p:nvPicPr>
        <p:blipFill>
          <a:blip r:embed="rId1"/>
          <a:stretch/>
        </p:blipFill>
        <p:spPr>
          <a:xfrm>
            <a:off x="0" y="0"/>
            <a:ext cx="9183600" cy="20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L4"/>
          <p:cNvPicPr/>
          <p:nvPr/>
        </p:nvPicPr>
        <p:blipFill>
          <a:blip r:embed="rId2"/>
          <a:stretch/>
        </p:blipFill>
        <p:spPr>
          <a:xfrm>
            <a:off x="0" y="6649920"/>
            <a:ext cx="9183600" cy="208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7L4"/>
          <p:cNvPicPr/>
          <p:nvPr/>
        </p:nvPicPr>
        <p:blipFill>
          <a:blip r:embed="rId3"/>
          <a:stretch/>
        </p:blipFill>
        <p:spPr>
          <a:xfrm rot="5400000">
            <a:off x="5659920" y="3304440"/>
            <a:ext cx="6858000" cy="24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L4"/>
          <p:cNvPicPr/>
          <p:nvPr/>
        </p:nvPicPr>
        <p:blipFill>
          <a:blip r:embed="rId4"/>
          <a:stretch/>
        </p:blipFill>
        <p:spPr>
          <a:xfrm rot="5400000">
            <a:off x="-3304440" y="3304440"/>
            <a:ext cx="6858000" cy="249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5"/>
          <p:cNvPicPr/>
          <p:nvPr/>
        </p:nvPicPr>
        <p:blipFill>
          <a:blip r:embed="rId5"/>
          <a:stretch/>
        </p:blipFill>
        <p:spPr>
          <a:xfrm>
            <a:off x="755640" y="2276640"/>
            <a:ext cx="27734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472000"/>
          </a:xfrm>
          <a:prstGeom prst="rect">
            <a:avLst/>
          </a:prstGeom>
          <a:solidFill>
            <a:srgbClr val="ffff00"/>
          </a:solidFill>
          <a:ln cap="rnd" w="6660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ие исследования Декарта тесно связаны с его работами по философии и физике. В "Геометрии" (1637) Декарт впервые ввёл понятия переменной величины и фун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6"/>
          <p:cNvPicPr/>
          <p:nvPr/>
        </p:nvPicPr>
        <p:blipFill>
          <a:blip r:embed="rId1"/>
          <a:stretch/>
        </p:blipFill>
        <p:spPr>
          <a:xfrm>
            <a:off x="250920" y="1700280"/>
            <a:ext cx="4066920" cy="3500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истема координат Декар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картова система координат - система координат на плоскости или в пространстве, обычно с взаимно перпендикулярными осями и одинаковыми масштабами по осям - прямоугольные декартовы координаты. Названы по имени Р. Дек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1476360" y="2276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11280" y="4221000"/>
            <a:ext cx="23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684360" y="3860640"/>
            <a:ext cx="107928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556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6836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69236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1476360" y="4149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ка я делал проект «Работы великих математиков», я узнал как развивалась математика начиная с древних времен вплоть до эпохи просвещения, познакомился с работами выдающихся математиков, на которых построена вся математ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93760"/>
            <a:ext cx="914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клид, как и другие великие греческие геометры, занимался астрономией, оптикой и теорией музыки. До нас дошли его сочинения, посвященные прикладным вопросам: "Феномены" (элементарная сферическая астрономия), "Оптика" (учение о перспективе) и "Сечение канона" ( теория музыки). Это были первые прообразы будущих исследований по математической физике: в них теория выводилась строго дедуктивно из явно сформулированных физических гипотез и математических постула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здо больше мы знаем о математическом творчестве Евклида. Прежде всего Евклид является для нас автором "Начал", по которым учились математики всего ми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удивительная книга пережила более двух тысячелетии, но до сих пор не утратила своего значения не только в истории науки, но и самой математик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ная там система евклидовой геометрии и теперь изучается во всех школах мира и лежит в основе почти всей практической деятельности люд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6" descr="8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436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двух тысяч лет по книгам, составленным Евклидом под общим названием "Начала", обучалась Европа. Наш современник, известный английский философ, логик и общественный деятель Бертран Рассел писал, что еще в дни его молодости единственным признанным учебником геометрии для школьников Англии оставалось адаптированное сочинение Евклида. Даже те учебники, по которым ведется первоначальное обучение геометрии в наше время, по существу, представляют собой переработку "начал" Евкли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яд ли можно найти книгу, более популярную в течении тысячелетий, чем "Начала". В этом смысле конкурировать с началами может разве что Библ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ьютон говорил: «Если бы у меня был сын, которого я желал бы сделать искусным геометром, я начал бы учить его по Евклидовым Началам. Англичане остались верны этому суждению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Начала" представляют большой труд, состоящий из 13 книг. Первые четыре книги содержат планиметрию, в них излагаются свойства плоских фигур, многоугольников и круга; пятая содержит теорию пропорций; шестая посвящена вопросам подобия фигур. Основные вопросы арифметики нашли свое место в седьмой, восьмой и девятой книгах; десятая содержит выяснение понятий о соизмеримых и несоизмеримых количествах; в одиннадцатой, двенадцатой и тринадцатой книгах изложены основные теоремы стерео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50920" y="3373560"/>
            <a:ext cx="8712000" cy="2714400"/>
          </a:xfrm>
          <a:prstGeom prst="rect">
            <a:avLst/>
          </a:prstGeom>
          <a:gradFill rotWithShape="0">
            <a:gsLst>
              <a:gs pos="0">
                <a:srgbClr val="784700"/>
              </a:gs>
              <a:gs pos="100000">
                <a:srgbClr val="bfa673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гмент старейшего папируса с диаграммами из "Элементы геометрии" Евкл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yrus found among the remarkable rubbish pil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rhynch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896-97 by the renowned expedition of B. P. Grenfell and A. S. Hunt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is now located at the University Pennsylv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473800" y="5529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20905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619280" y="260280"/>
            <a:ext cx="553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мар Хайям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284720" y="4221000"/>
            <a:ext cx="439092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1048 – 113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116000" y="5734080"/>
            <a:ext cx="24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12" descr="1"/>
          <p:cNvPicPr/>
          <p:nvPr/>
        </p:nvPicPr>
        <p:blipFill>
          <a:blip r:embed="rId2"/>
          <a:stretch/>
        </p:blipFill>
        <p:spPr>
          <a:xfrm>
            <a:off x="539640" y="2349360"/>
            <a:ext cx="306396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449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ы математиков стран ислама, и среди них работа Омара Хайяма, являются существенными звеньями в цепи исследований, приведших к строгой теории действительного числа и основанному на ней математическому анали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лгебраический трактат Хайяма можно разбить по порядку на пять разделов: 1) введ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решение уравнений 1-й и 2-й степе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решение уравнений 3-й степе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сведение к предыдущим видам уравнений, содержащих величину, обратную неизвестн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дополнение (в тексте трактата такого деления на разделы не имеется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мар Хайям вошел в историю всемирной культуры не только как блестящий ученый-энциклопедист, но и как прекрасный поэт, который воспевал свободу, бичевал ханжество и лицемерие, высмеивал суеверия. Его стихи были переведены на все языки ми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т одно из стихотворений Омар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Чтоб мудро жизнь прожить, знать надобно надо немал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ва важных правила запомни для нач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ы лучше голодай, чем попало 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 лучше будь один, чем вместе с кем попал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" name="Picture 7" descr="flaue"/>
          <p:cNvPicPr/>
          <p:nvPr/>
        </p:nvPicPr>
        <p:blipFill>
          <a:blip r:embed="rId1"/>
          <a:stretch/>
        </p:blipFill>
        <p:spPr>
          <a:xfrm>
            <a:off x="2843280" y="4797360"/>
            <a:ext cx="2376360" cy="1793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020000" y="6453360"/>
            <a:ext cx="187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 rot="944400">
            <a:off x="680760" y="-244080"/>
            <a:ext cx="65228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498000"/>
                </a:gradFill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498000"/>
                </a:gradFill>
                <a:latin typeface="Impact"/>
              </a:rPr>
              <a:t>Фалес Милетски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498000"/>
              </a:gradFill>
              <a:latin typeface="Impact"/>
              <a:ea typeface="Impact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43280" y="3645000"/>
            <a:ext cx="40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625 до н.э. - 548 до н.э.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10" descr="7"/>
          <p:cNvPicPr/>
          <p:nvPr/>
        </p:nvPicPr>
        <p:blipFill>
          <a:blip r:embed="rId1"/>
          <a:stretch/>
        </p:blipFill>
        <p:spPr>
          <a:xfrm>
            <a:off x="755640" y="2276640"/>
            <a:ext cx="3340080" cy="4095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12:14Z</dcterms:created>
  <dc:creator>рамзия</dc:creator>
  <dc:description/>
  <dc:language>en-US</dc:language>
  <cp:lastModifiedBy>SHka</cp:lastModifiedBy>
  <dcterms:modified xsi:type="dcterms:W3CDTF">2010-06-03T15:21:32Z</dcterms:modified>
  <cp:revision>78</cp:revision>
  <dc:subject/>
  <dc:title>Слайд 1</dc:title>
</cp:coreProperties>
</file>